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6398-D54C-4A49-BA9F-1BCDB69E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301-B0ED-464E-8DCA-A261EFE7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E58A-C2E8-4734-9103-5917B139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018-240F-4BD6-83FC-9DCB09FB7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29A-0C15-4E34-B05C-2C30AB98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318-99D8-4E24-B1B4-8D9D90EE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A5F5-4236-42B1-86C7-B448D584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B8E-8555-45B5-8943-41753B5F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2933-0729-4FD4-B0C2-E2752A80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AF5-2090-44CC-BFB4-A951F932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EBFC-7217-447A-B6C9-9363ABF2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874E-9192-4FF2-8BA4-F0F2F4F8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B07A-86C3-4494-A0E2-3BA0A62FE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rulea Andre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a aXI-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ency FB"/>
              </a:rPr>
              <a:t>Ma numesc Petrulea Andreea,am 17 ani si sunt eleva in clasa a XI-a 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gency FB"/>
              </a:rPr>
              <a:t>Am ales acest profil deoarece nu mi-a prea placut matematica,mai tarziu mi-as dori sa devin politista sau invatatoare.Sunt o persoana prietenoasa,sociabila,modesta,in stare sa dau in orice moment o mana de aju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7T09:27:36Z</dcterms:created>
  <dc:creator> </dc:creator>
  <dc:description/>
  <dc:language>en-US</dc:language>
  <cp:lastModifiedBy> </cp:lastModifiedBy>
  <dcterms:modified xsi:type="dcterms:W3CDTF">2011-10-21T09:48:30Z</dcterms:modified>
  <cp:revision>3</cp:revision>
  <dc:subject/>
  <dc:title>Petrulea Andreea</dc:title>
</cp:coreProperties>
</file>